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1441-15DA-4DDC-BD88-624CC473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F324B-485A-4761-AC5D-CAF4A74B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0E128-13A2-4AC3-A92B-BD493BA33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1877E0-0ACD-4F9B-9655-57A465B92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4D7081-4ABA-4C74-9462-F76690981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46D1B-A99E-4235-9837-8A42F5744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A788F-59ED-4D87-BB86-9D8B3A8663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A0670-1E6C-437E-BB86-1E622976F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13CED-7058-4304-8952-97526A801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724E11-1325-4A8A-9996-A78CD2F60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FE68CE-50A1-412E-96FE-FE38FC0D45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DD695B-3E04-44E8-A926-D8859AAADE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2408C-4E26-45B2-B49C-80150541C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A7A644-25FF-48A3-9D23-D248DF3A0C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06B8F3-B64A-45EC-AE33-972015F0F7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81513C-E7B7-456E-A403-D5FFFBE547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223061-BC30-49D2-9044-D08EFE9BFE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DD99F6-E5BB-4F2B-92DD-736CC37BE9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643A73-BAAC-4382-8D9F-4DF6730F50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BFC037-4D02-424B-BE13-9E3097503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7F0556-40FC-4354-B2B7-778CA1A4B9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AADFB7-FBD2-4D2B-95C0-890C36DE9A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C900AF-8D64-45EA-83CD-CD73981B9B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B7D41-F7AF-4C84-B356-021920F6F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AE8BCC-119E-4CE9-A010-61FCAFAFBE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5004AE-45D9-44AB-B40C-B3F78FC7AC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BC2F83-EC02-4986-A970-A311CE46DF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4794CE-8379-4417-BD3E-812A381A64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6B7D60-F50F-4EDC-943E-D597174263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3AF7C0-BD7A-4D38-8405-859E7CF75B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4955A2-3BD4-4AFC-BF05-20FAE44402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3A2582-C9BB-416D-8F80-ACA6728C89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4CF7B4-1251-4AA2-A679-8187F085E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0DD5C6-6E07-4AC9-863C-F21D6461FB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0FF3B-7042-426D-A669-9F35AA162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97835A-D11C-4DFF-86A2-F4C4981305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EC6B16-DA4F-4AC3-9EFF-EF8CE2C1AA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6E5829-328B-45BE-B131-F7773CBCA0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64EB19-6DB5-4F37-8E15-42990F11AF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F78829-AC36-4CD5-9B3C-82DC12E1A6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2ECBAE-2CBF-4E4A-83A5-6F35CACDBD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E7DE34-0012-41A1-A24F-CB1F4C7EC8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96E02A-3134-4476-AA6F-8C0E7A1F8A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775BF6-1BB0-41E0-8E9C-05938792A5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4D6C01-A338-4CC2-87D5-21E4D08E6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B9CAD-3F76-4B19-85A0-DFD519738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4B7E1F-C9BE-4F9A-9389-D983B98958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00DFCD-1F74-44A5-AEF2-975327F4A1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069682-6A1D-4D8E-B670-0D8B0AFC50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A957005-B9BB-4439-A696-0D3D771750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0067D4-0E0E-49FF-B132-5F290C89B2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7FDF4A-ADF6-474E-962D-878EFDF2D6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C9EB6A-F37E-494D-A47D-3A94CED4A3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2E905E-163F-4185-A40C-0C7FC0BA8D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EC13C5-CA08-4B20-B427-A2B0450DC6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248539-01EC-488E-8DB9-23755978D2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04496-9F5D-4F8E-8016-D2F13A04D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EC303A-4DC4-4A8B-B9FC-4E51913B16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05789E-6E26-41F7-9427-2AB1F1A302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6DF876-29D9-4CF1-847B-11669F1DD1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C78200-F11A-455C-B0F4-CBAED7BBCE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76A622-DA75-4D6C-A386-62D570372F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F88169-A589-48FF-873F-04D83AA185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5713F0F-26FD-466A-B3AB-DC409E1F01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CFED3E2-76FF-47B3-B0ED-8394EAA5F1A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2B36B3-32D5-42D6-B044-64B08ACE66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0B8FFD-0D4F-4E30-AF0D-BC4DDEEC6D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4A960-C7A2-4D91-BF97-CE8F5F16F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BA3638-2444-478F-B0D2-15CE1859CD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611E47-D792-4447-86D5-65667F8214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41C606-203A-4D12-9FEB-B9ADEC346A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84A2FA-B21C-4321-9EE5-71A902CC6F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15D223-221D-4724-85BC-AC0CABFC48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536654-ABAD-4729-BD37-DAA5F3B3F2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5BD9AF-8257-4834-BF3C-7960F6A53F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39F8138-89D4-44E9-90D4-5A630C3DAB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9B67BA-85F6-437D-ADD2-791CBC1744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366689-59B5-4130-ADDF-D5FB9A9C15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FA153-F168-4F56-B9B9-1C34CA730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7147E6-7DD8-40DE-A9F0-B9F0D446C0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A7E13D-BAC1-4D98-A5B0-C6BFA54DEB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49CE73-CF9D-41DA-B094-B87B7E3AB5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5DA8AB-4CC2-43C1-B5FE-DF53B42812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75D3E0-1C79-46C8-B147-4D7657BB6C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F24769-E96E-44C8-AF6C-4FE857A65D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EFE914-772C-4A57-BB1F-2D364C5875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A83AD0-27EC-4358-A904-DB5A04B133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59DE57-357F-4DC2-A5B6-DBD35BCDA5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D363823-3E5C-4FE6-8319-E632FEF5F65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EEF08-F005-4E09-BAE5-5942B76B1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1BF34C-41F3-4068-9E36-A7BF19E804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CFF83F4-A594-4578-B4BD-67CE28440B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5777C3-299C-4F3E-8AB9-34956465C3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843C07-FDB4-4434-966D-4BC815FD75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4C452F3-DEF4-4391-9DBC-CF43B3422F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69D6CB-3DC5-4356-B730-0C6F394BEA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E6DE39-A5D4-4B47-9E58-F34A118535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B1904F-28AC-44B7-9E26-8F54ED5E58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4B07A9-0F07-4753-8946-E550C7E293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AF08E8-8C4D-4A9D-B581-EB516B7479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87F11-C14A-48E9-BFEC-CF044C4CA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4A2864-90DA-43CA-BA88-73CE877E81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6B2236-6BB9-4C75-840A-1C9EF8588B4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058A42B-8A9D-41F3-A08C-E50F4B26280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D5C448-7511-407F-8E10-DBFF1FCDA29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6218134-29DE-4EC0-9847-2AAAEF069B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D4CD57-9504-41BF-827E-031CC6A15A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605741-D72D-4B64-90E1-1FC258CA17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3BB85C-A86D-43F3-9A01-9A76B44F048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81DEFF-B0A1-45A0-9E0B-529E32E219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164E43-AF27-4956-8B33-9560A474C9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811A-8FC7-46C9-BD1C-95A9F4EC8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594E-6346-4116-9614-42236CD0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AC6F28-6F71-458D-8DE0-2AB414650E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70B098-939E-4909-963B-B7BA8B106C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C04DB0-0364-45AF-A3C6-AC7C7DFA60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3A593E-A6A8-41EA-BB0C-B54E863AB6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268A6AF-150B-4136-93CB-282A0691C9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E638D-B197-4910-B1BE-8318D0C46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E5BEA-DA64-43F9-9950-9820ABF45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131BA-7037-4CB2-A7A8-70F7D02CF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2EA89-5AA9-440F-90E8-6CAB82EDC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37CEE-9AC4-4374-A10F-FB6FC578A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A75EB-43B1-4286-9C40-C96072ECF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BE9B3-4B2D-458D-8590-66F75C957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3671A-F91A-46CB-BDE9-AD4CA1E09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C0624-24BE-4BC0-AF66-9718F35D6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4901-A4EF-44DF-B3A7-5504447B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2DF18-B5EA-4761-8C00-73398A201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D5A72-43FF-4FD4-B579-3E3D5825A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6C26D-EA23-4D6C-A3CD-2D45F4383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A82D0-7CBD-49CE-9BCC-86EB406D6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2238E-BD76-4235-94D8-4338C395A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38761-5247-408F-864B-EABE3FA10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679153-C6F3-44E1-8A0C-68CB4CC1F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F1BB4-1455-46EE-AA1F-8C73B9C5D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565B3-D633-47FE-B643-7FF2871B4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ED1EB-F3B9-42FE-9408-D05E94508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B9AF0-94DC-42F9-A4B8-87941ADE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FFBA1-85EF-428D-A268-5A4DDC257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34B58-E4C1-4C35-85A1-4BCD8E124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1FAE0-875D-4F6C-A445-CE2532EAA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B915E-CADA-48DA-BC37-3F4350938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39295-258B-47D5-83E5-203D29A04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33ABE-AF76-4ABE-9BD2-A3EC567A7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28702-4BA1-4861-A1C8-DFB519F3B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F36904-4F94-4629-89CA-6003074EF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A6CFB-71C8-4EFE-A359-B000CC5FF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067E6-B050-4447-98F7-2A1EE42512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EE14-4CD9-44BF-951F-4441BEF87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A58D4-A255-4346-BC3A-AC1C7B23B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14771-696A-41D1-9A09-5A4078BD1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A1CFD-EBEE-4FA5-80F0-511DF93E1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76F09-CDE2-4C7E-AF01-9ACF59AE2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DF11E-157D-4508-A9ED-D6E31BD99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04AF8-CB14-4DAF-92B6-DA58B1BA2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81D80-BFF0-4A8A-953A-B2B815B85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4770F-7E07-4FD3-AAB8-050AD926B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6D757-7D20-409C-8CCE-F3334C33F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B8DA97-5064-4CB7-A44F-71B517F30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78F8-B6D2-43C2-BECB-6D4DE4FDD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D5EE3-17AC-493E-A768-1B1EEB4E3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097A62-269F-4D1E-AE0B-3DE9164B37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7642D-72E3-4B63-8459-40ED48B7D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FC25F-FD1E-49C1-91CC-E7A927954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1DB3C-AAF9-4C55-A29B-74BDBCB16E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CEDF1-3935-436F-AE7C-0C58ED502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5ACDCB-FE67-4EB0-A14A-95D3AF4C0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EE5BF-D755-4EB7-BF9E-5239FA975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1553B-913F-4CB9-BAF2-7CFA255FE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7409F-033F-4B85-BE3A-7F6BE895E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E2CA-0DDA-4F04-A0D4-3E3CD46B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77F94-7442-447D-8F2C-984DE2789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2CDCD7-9E51-4BA2-A47E-0C9AD67A4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5A0962-CBAA-44C4-BA75-9E2CC77A1F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5E7A09-5039-470B-A3A0-7AA7B29849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C5F96-BA7D-468D-A5E0-002BEF621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2C7139-E75D-4E82-942D-34E3054340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27851-63BB-4F45-B5A0-584299E08D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758C9F-F54A-4272-B618-C006F7C2B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ABC92-EBB1-404C-8E53-B8E4F89E6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45F6D-F0FD-45EE-BDB2-0A6F4FF38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998A-742B-46F4-A89B-F682C717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690AA-0181-40F5-A521-DD5D01480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687DF-8870-4EB0-8664-278766DF6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83235-CBFD-4B58-A8D4-7A3470F926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BD10F2-E0BF-447B-B11F-0515D0E802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0A2C50-D422-48DD-B73A-3172B8266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AAD6D1-8937-4EC7-A96B-6976D44889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70151-25BD-4460-90B0-EA8B6791B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87E56-07D8-4CC3-8049-60668F65B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1B3B6-9859-44D6-AE81-1AB466E2B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B0AD4-5E70-4021-897A-E0A8AB2C8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2C2D-81FD-4AA8-AE1D-722FE711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A26A7-827D-4D58-924F-A54B2C66C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E6B59-102B-4735-AEE0-3A3014668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FF18A-B498-44AA-A54F-F619B698B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02C7E-F90E-4A58-B37C-8AF9D93CE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09D94-0D25-4AED-BAC1-111343747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7EBAD-2AFE-4CE3-B281-017E2B2AD9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805D5-93D7-4214-B36D-E572AFCB23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B5B488-5596-4DC4-999F-147D330351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B79E7E-0D03-4DC3-BC51-A65BF089FE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2D60E-8ADF-4DDE-8E60-665966D664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7EEB2-D4FE-4489-A407-3D878FA3038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B11A0-EFED-49C3-BF79-42A5C44A42E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A1017-4C23-46AD-AC91-024AE5F5026A}"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5777F-1138-44AA-8E51-F9E992AC432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F11C3-9E0B-4AB8-B9A1-0CF01555C04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D7BF1-CCB3-476E-AD45-A76297CD218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2ADEC-DCFE-4F8D-80CE-1A11A7A4192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3627D-3F1D-4AD1-B99C-70CF4D6C441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E203B-4BDB-49AD-99EF-61D2B0827630}"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B5354-0D51-4F4F-ABF0-F6233F889C5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85D51-2799-470F-AD37-0BB47558DE9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674F1-BCDB-4F95-B0DD-DCAE379D9D5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3ED8C-663F-438C-A0EE-AE725443027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F2299-1224-4AEE-9EB9-515B1953ACD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758BF-980D-4945-9918-36C065D3ACBF}"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655E4-E9CA-4C88-81D7-C095E5635AB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7201E-D79E-41FA-B934-27CB60754AB4}"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Βιβη</cp:lastModifiedBy>
  <dcterms:modified xsi:type="dcterms:W3CDTF">2017-12-06T06:15:28Z</dcterms:modified>
  <cp:revision>58</cp:revision>
  <dc:subject/>
  <dc:title>Παρουσίαση του PowerPoint</dc:title>
</cp:coreProperties>
</file>